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31A6-7622-4770-9489-5E29F4090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 worse-case example was cardiology, which had service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14 separate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 worse-case example was cardiology, which had service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14 separate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tients had to travel to more than 4 separate locations on the same day in order to receive all their care for a particular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ecause the program typically consists of a large number of examination rooms, physician offices, etc whose sizes and attributes can be standard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consists of arranging highly repetitive room types in a logical patterns that maximiz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must also include strategies for accommodating non-repetitive program elements and integrating planning of column grids and building support elements (eg. Mechanical shafts, electrical closet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(Opened in June of 20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C31-1255-4D5F-95F5-3D3D8148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70F-97C9-4D83-BC6F-9638F1D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B99-75EA-40AA-A3E1-0B1B5656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FA7-FE68-433F-8C5E-002CB4BD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D34D-6E89-4F07-93EB-9A813BE4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F031-D30D-47D4-B1CE-337DCC4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B7F-ECE0-483A-80D1-6990417F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410D-9766-457D-ADDD-C06812D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EDE6-E92D-478A-8EE1-DF0C9E8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74B4-3905-49B2-9F3C-B01CF56F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29D7-8D10-476E-BA52-9F7E686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759-4AFF-4609-BFDB-0C840E6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403-41A3-4329-A5E3-64C0624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AEFB-8B95-436D-9273-5E73AF08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C949-2E41-4BFB-B5A6-CE3D158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E7F0-DA4B-46E8-9C9F-281182F5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671A-DBF4-466F-8878-724B9D50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09C-5AD5-481C-A973-7F2569D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E6A-E338-4840-A0E4-33020F03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C94-E875-4BBF-96BF-8E9E028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E86-7599-4A12-BFF6-7BBC2231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4E3-1864-4059-A04F-6B01264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243-D784-413A-A55F-A0B946A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2C6-94DE-443C-AA1D-E7E027A3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2021-47E4-4EC9-87CE-9A8E898D697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3C38-9A69-4662-BBD6-EF41432AB9E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533240"/>
            <a:ext cx="64767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o Brainwa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ign of Pediatric Health Center of the Fu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eg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ndee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ngseon Cho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vanavarj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371600"/>
            <a:ext cx="79200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According to MGH (Massachusetts General Hospital), on an average, patients had to travel to more tha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4 separate loc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in order to receive all their care for a particular dise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This created a significant amount of frustration for patients, substantial foot traffic and inefficiency within the clinical depart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1680" y="5867280"/>
            <a:ext cx="66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Pauly (2005) Planning a Large Ambulatory Care Center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at an Academic Medical Center,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nalysis of the patient flow through the hospital depending on the disease typ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pping 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tient flow on the hospital floor to a physical pa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bjective is to determine the optimized p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ing of the different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ing the hospital flo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2 - Patient Flow – Deliverab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19720" y="15235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low diagram to map the traffic for the different units and decide which units can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-loca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hospital model with the floors and a floor plan defining the patient mo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existing floor layout with our proposed layo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7560" y="1968480"/>
            <a:ext cx="3759840" cy="3342240"/>
            <a:chOff x="367560" y="1968480"/>
            <a:chExt cx="3759840" cy="3342240"/>
          </a:xfrm>
        </p:grpSpPr>
        <p:sp>
          <p:nvSpPr>
            <p:cNvPr id="137" name=""/>
            <p:cNvSpPr/>
            <p:nvPr/>
          </p:nvSpPr>
          <p:spPr>
            <a:xfrm>
              <a:off x="1760400" y="1968480"/>
              <a:ext cx="69624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Patient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9720" y="2525760"/>
              <a:ext cx="111384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Registration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1080" y="3083040"/>
              <a:ext cx="97452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Diagnosi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21080" y="3918600"/>
              <a:ext cx="97452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Outpatient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560" y="3917880"/>
              <a:ext cx="83520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Inpatient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3560" y="3917880"/>
              <a:ext cx="111384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Critical Car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0560" y="4475160"/>
              <a:ext cx="835560" cy="835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9880" y="4753440"/>
              <a:ext cx="5569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MRI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6640" y="4475160"/>
              <a:ext cx="5569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42440" y="4475160"/>
              <a:ext cx="41760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6640" y="2246400"/>
              <a:ext cx="72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08520" y="2803680"/>
              <a:ext cx="36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8520" y="4196520"/>
              <a:ext cx="3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5520" y="3639240"/>
              <a:ext cx="2784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08520" y="3639240"/>
              <a:ext cx="3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8240" y="3627720"/>
              <a:ext cx="72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520" y="3639240"/>
              <a:ext cx="3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8000" y="4892760"/>
              <a:ext cx="417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156680" y="4892760"/>
              <a:ext cx="556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8520" y="3360600"/>
              <a:ext cx="36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3 – Signage &amp; Way fi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98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echnological look to path finding and sign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osks at the entrance with 3D floor pla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S enabled hand held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tination specific RFID audio Turn Right, Take Elevator, Sto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2844720" cy="28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5329" r="0" b="9335"/>
          <a:stretch/>
        </p:blipFill>
        <p:spPr>
          <a:xfrm>
            <a:off x="228600" y="4378320"/>
            <a:ext cx="285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4 – Future Pediatric Cen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uturistic Pediatric Emergency room where the different medical equipment TALK to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dia used include - Bluetooth, Wireless Network, Live Streaming Vide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Communicable Diseases and Contagious Air-borne dis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~ # 4 – Future Pediatric Cen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Equipment are capable of transmitting signals wirelessly to the server at the nurses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bserving nurse checks the vital signs of the patient and decides if any dosage needs alt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quipment receives feedback and alters the dosage according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aming Video monitoring of the patient to view the physical condi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ng it Togeth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18399" r="31818" b="43333"/>
          <a:stretch/>
        </p:blipFill>
        <p:spPr>
          <a:xfrm>
            <a:off x="6553080" y="411480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0" r="24887" b="0"/>
          <a:stretch/>
        </p:blipFill>
        <p:spPr>
          <a:xfrm>
            <a:off x="2962440" y="1752480"/>
            <a:ext cx="3219120" cy="3848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19539" t="0" r="0" b="3968"/>
          <a:stretch/>
        </p:blipFill>
        <p:spPr>
          <a:xfrm>
            <a:off x="6934320" y="1371600"/>
            <a:ext cx="140472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38006" t="0" r="30501" b="0"/>
          <a:stretch/>
        </p:blipFill>
        <p:spPr>
          <a:xfrm>
            <a:off x="457200" y="1523880"/>
            <a:ext cx="16002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~5 – Video Messaging for Cell Ph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xiety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llness may cause the patient or their family to not completely recall the doctor’s diagno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tient’s family is not updated on the patient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propose to record a video of the patien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ctor mee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~5 – Video Messaging for Cell Ph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webcam in the examining room records the patien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ctor discussion (on patient’s consen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pplication is developed to send the video as a Multimedia Message to the patient’s mobile ph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octor can also record messages for the patient’s family to communicate patient’s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waves~ # 1 to # 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We chose the team name Lego since it is spatially efficient and offers several possibilities. Our brainwaves are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Universal Design Concepts in the 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 Fl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ge &amp; Way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 Pediatric C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Messaging with Mobile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~~~~5 – Video Messaging for Cell Ph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3499" t="0" r="26371" b="0"/>
          <a:stretch/>
        </p:blipFill>
        <p:spPr>
          <a:xfrm>
            <a:off x="6705720" y="2286000"/>
            <a:ext cx="2128680" cy="419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6860" t="5426" r="7427" b="14003"/>
          <a:stretch/>
        </p:blipFill>
        <p:spPr>
          <a:xfrm>
            <a:off x="3581280" y="1752480"/>
            <a:ext cx="2667240" cy="2506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8828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– Universal Design Concepts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Implement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Universal Design concep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in develop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modu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which can accommodate specific disease types such as 1) Sickle Cell, 2)Asthma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The universal room was defined as the one that could accommodate various case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Modular desig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- operational and space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- future flex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60160" y="609588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Determine the module size that depends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existing grid of th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requirements for three specific types of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Design the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– Universal Design Concepts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9250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</a:rPr>
              <a:t>Brain~ # 1 </a:t>
            </a:r>
            <a:br>
              <a:rPr sz="4200"/>
            </a:b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Case Stud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7800" y="205704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The Kaiser Permanente Santa Clara Medical Office Building i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3 modularly planned building blocks are attached to a “U-shaped” single-loaded corrid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9 X 11 module for both examination rooms and provider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370" t="1877" r="30141" b="6174"/>
          <a:stretch/>
        </p:blipFill>
        <p:spPr>
          <a:xfrm>
            <a:off x="762120" y="205740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7080" y="6172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Arsenault (2004) Adapting to Change,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19320" y="1676520"/>
            <a:ext cx="74674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43000" y="1666800"/>
            <a:ext cx="7543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95280" y="2166840"/>
            <a:ext cx="76201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cc"/>
                </a:solidFill>
                <a:latin typeface="Arial"/>
                <a:ea typeface="굴림"/>
              </a:rPr>
              <a:t>Brain~ # 1 - Universal Design Concept in the 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0560" y="5891040"/>
            <a:ext cx="70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Saba (2004) Universal Design Concepts in the Emergency Department,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66"/>
                </a:solidFill>
                <a:latin typeface="Arial"/>
                <a:ea typeface="굴림"/>
              </a:rPr>
              <a:t>J Ambulatory Care Mana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52480" y="1600200"/>
            <a:ext cx="5639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9:33:41Z</dcterms:created>
  <dc:creator>labuser</dc:creator>
  <dc:description/>
  <dc:language>en-US</dc:language>
  <cp:lastModifiedBy>gtg977i</cp:lastModifiedBy>
  <dcterms:modified xsi:type="dcterms:W3CDTF">2007-09-25T20:30:29Z</dcterms:modified>
  <cp:revision>65</cp:revision>
  <dc:subject/>
  <dc:title>Lego Brainwaves</dc:title>
</cp:coreProperties>
</file>